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A6E-787E-4C7D-ADB2-3B4C4749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B3A-83C7-44A6-BA90-E3DE42F6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8CE-C240-4B26-BB8D-4158BC1B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E64-9AAA-48A4-A768-DB6F8495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9A00-B8BB-4DBC-B37F-DDD1E6BE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AD32-3E98-4D6A-A2A9-CD5FE575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F1FA-8266-4D32-A0B8-57D0D5E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32AE-85B6-439A-A831-6630EE65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0698-EBAF-4205-ABB0-9C7C7ABC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FCED-2B21-4BE6-9D4F-61FA4516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CC76-2A8B-40C5-A7B4-F538479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D84-307A-422E-8D51-DFC1AB18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8ED4-D55F-43B8-A4E5-D384E8A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A76A-B991-4294-BA85-26F94958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F39B-201C-4495-A5F1-F4EDD99E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205A-D4E1-4B84-A5FF-C7D66BC0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0F39-456E-43B3-B490-BEA9DA41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47A-B7D7-4540-AEE6-A5BCFFCC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67D-990B-4C21-BB42-34F0596E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483-C098-485C-B445-1B637688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9D7-D7FB-4629-94A5-A16F909D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8C2-C1D0-497C-BE38-FED7E9CA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605-8451-4788-BF8F-D9413239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19B-C62F-4C13-8DD9-0E933452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105F-0E74-4F88-B197-5E31A64C7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1A35-06CA-464C-8E92-471A55A84A1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cut_300_461_TELDOVERIA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74680"/>
            <a:ext cx="7516800" cy="1657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5715000" y="5996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066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4" descr="D:\Мои документы\Новое\Праздники\День детского телефона доверия\2.png"/>
          <p:cNvPicPr/>
          <p:nvPr/>
        </p:nvPicPr>
        <p:blipFill>
          <a:blip r:embed="rId2"/>
          <a:stretch/>
        </p:blipFill>
        <p:spPr>
          <a:xfrm>
            <a:off x="1523880" y="1895400"/>
            <a:ext cx="6407280" cy="309096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8"/>
          <p:cNvSpPr/>
          <p:nvPr/>
        </p:nvSpPr>
        <p:spPr>
          <a:xfrm>
            <a:off x="2071800" y="3786120"/>
            <a:ext cx="5072040" cy="4287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2786040" y="371484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40"/>
                </a:solidFill>
                <a:latin typeface="Times New Roman"/>
              </a:rPr>
              <a:t>8 – 800 – 2000 – 12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4643280" y="3582720"/>
            <a:ext cx="4214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Детский телефон доверия</a:t>
            </a: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 - дает возможность получить своевременную помощь в трудной ситуации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71680" y="727920"/>
            <a:ext cx="4857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Детский телефон доверия </a:t>
            </a: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 создан  чтобы ребенок в трудных для него ситуациях мог обратиться за помощью, обсудить свои проблемы, посоветоваться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3" descr="D:\Мои документы\Новое\Праздники\День детского телефона доверия\Дела-семейные1.jpg"/>
          <p:cNvPicPr/>
          <p:nvPr/>
        </p:nvPicPr>
        <p:blipFill>
          <a:blip r:embed="rId1"/>
          <a:stretch/>
        </p:blipFill>
        <p:spPr>
          <a:xfrm>
            <a:off x="785880" y="3714840"/>
            <a:ext cx="3522600" cy="2643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www.muravlenko.com/uploads/posts/2011-07/1311653157_tel-doveriya200.jpg"/>
          <p:cNvPicPr/>
          <p:nvPr/>
        </p:nvPicPr>
        <p:blipFill>
          <a:blip r:embed="rId2"/>
          <a:stretch/>
        </p:blipFill>
        <p:spPr>
          <a:xfrm>
            <a:off x="5432400" y="785880"/>
            <a:ext cx="352116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673560"/>
            <a:ext cx="69292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оказывать помощь в разрешении следующих трудностей: конфликты в семье и школе,  учебные и личные проблемы, и т.д.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поддерживать детей и родителей в разрешении внутрисемейных проблем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информировать людей о способах и средствах преодоления жизненных трудностей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помогать снижать внутреннее напряжение людей, развивать их способность понимать свое состояние и управлять им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214200" y="285840"/>
            <a:ext cx="871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add6"/>
                </a:solidFill>
                <a:latin typeface="Times New Roman"/>
                <a:ea typeface="Times New Roman"/>
              </a:rPr>
              <a:t>Детский телефон доверия</a:t>
            </a:r>
            <a:r>
              <a:rPr b="0" lang="en-US" sz="3000" spc="-1" strike="noStrike">
                <a:solidFill>
                  <a:srgbClr val="ffadd6"/>
                </a:solidFill>
                <a:latin typeface="Times New Roman"/>
                <a:ea typeface="Times New Roman"/>
              </a:rPr>
              <a:t> нужен для того, чтобы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6" descr="http://uude.ru/upload/iblock/c8b/10.jpg"/>
          <p:cNvPicPr/>
          <p:nvPr/>
        </p:nvPicPr>
        <p:blipFill>
          <a:blip r:embed="rId1"/>
          <a:stretch/>
        </p:blipFill>
        <p:spPr>
          <a:xfrm>
            <a:off x="6248520" y="3643200"/>
            <a:ext cx="2895480" cy="2000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2876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add6"/>
                </a:solidFill>
                <a:latin typeface="Times New Roman"/>
                <a:ea typeface="Times New Roman"/>
              </a:rPr>
              <a:t>По каким вопросам можно обратиться к специалисту Детского телефона доверия?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2" descr="D:\Мои документы\Новое\Праздники\День детского телефона доверия\doverie.jpg"/>
          <p:cNvPicPr/>
          <p:nvPr/>
        </p:nvPicPr>
        <p:blipFill>
          <a:blip r:embed="rId1"/>
          <a:stretch/>
        </p:blipFill>
        <p:spPr>
          <a:xfrm>
            <a:off x="1500120" y="3643200"/>
            <a:ext cx="6616800" cy="2841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0" y="357120"/>
            <a:ext cx="57862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Когда больше не хочется никого видеть и ни с кем общаться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Попал в безвыходную ситуацию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Обидели в школе (на улице, дома)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Когда не знаешь, как вести себя  в тех или иных ситуациях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Ссора с другом (подругой); как  быть дальше?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Произошел конфликт с кем-то из старших, и в связи с этим тревога не покидает тебя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15" descr="Картинка 27 из 122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1000080"/>
            <a:ext cx="3214440" cy="51436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3071880" y="301680"/>
            <a:ext cx="6072120" cy="69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Родители не понимают, и ты не знаешь, как себя с ними вести и заслужить их уважение и понимание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В школе проблема с учителями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Очень нравится девочка или мальчик и ты не знаешь, как привлечь ее (его) внимание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Друг курит (употребляет алкоголь или наркотики); как помочь ему избавиться от этой зависимости? К кому обратиться за помощью?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Какую профессию выбрать и кем стать в будущем?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15" descr="tel_doveria"/>
          <p:cNvPicPr/>
          <p:nvPr/>
        </p:nvPicPr>
        <p:blipFill>
          <a:blip r:embed="rId1"/>
          <a:stretch/>
        </p:blipFill>
        <p:spPr>
          <a:xfrm>
            <a:off x="0" y="785880"/>
            <a:ext cx="3000240" cy="5348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714240" y="3379680"/>
            <a:ext cx="7929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e066"/>
                </a:solidFill>
                <a:latin typeface="Times New Roman"/>
              </a:rPr>
              <a:t>Служба телефона доверия работает каждый день, без выходных. </a:t>
            </a:r>
            <a:br>
              <a:rPr sz="2200"/>
            </a:br>
            <a:r>
              <a:rPr b="0" lang="en-US" sz="2200" spc="-1" strike="noStrike">
                <a:solidFill>
                  <a:srgbClr val="ffe066"/>
                </a:solidFill>
                <a:latin typeface="Times New Roman"/>
              </a:rPr>
              <a:t>В любое время, днем и ночью каждый обратившийся найдет здесь открытого и понимающего собеседника, готового выслушать и помочь в кризисной ситуации. </a:t>
            </a:r>
            <a:br>
              <a:rPr sz="2200"/>
            </a:br>
            <a:r>
              <a:rPr b="0" lang="en-US" sz="2200" spc="-1" strike="noStrike">
                <a:solidFill>
                  <a:srgbClr val="ffe066"/>
                </a:solidFill>
                <a:latin typeface="Times New Roman"/>
              </a:rPr>
              <a:t>Сотрудники службы уважают право другого человека быть таким, какой он есть и готовы принять без критики и осуждения. Сам факт обращения на телефон доверия и содержание беседы остается в тайне. Звонящий может не называть своего имени. </a:t>
            </a:r>
            <a:br>
              <a:rPr sz="2200"/>
            </a:br>
            <a:r>
              <a:rPr b="0" lang="en-US" sz="2200" spc="-1" strike="noStrike">
                <a:solidFill>
                  <a:srgbClr val="ffe066"/>
                </a:solidFill>
                <a:latin typeface="Times New Roman"/>
              </a:rPr>
              <a:t>Телефонный разговор не надо оплачивать. 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2" descr="D:\Мои документы\Новое\Праздники\День детского телефона доверия\1288641861_4.jpg"/>
          <p:cNvPicPr/>
          <p:nvPr/>
        </p:nvPicPr>
        <p:blipFill>
          <a:blip r:embed="rId1"/>
          <a:stretch/>
        </p:blipFill>
        <p:spPr>
          <a:xfrm>
            <a:off x="2340000" y="0"/>
            <a:ext cx="44956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785880" y="500040"/>
            <a:ext cx="73580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e066"/>
                </a:solidFill>
                <a:latin typeface="Times New Roman"/>
              </a:rPr>
              <a:t>Звонок с любого телефонного номера, в том числе мобильного — бесплатный. </a:t>
            </a:r>
            <a:br>
              <a:rPr sz="2200"/>
            </a:br>
            <a:r>
              <a:rPr b="0" lang="en-US" sz="2200" spc="-1" strike="noStrike">
                <a:solidFill>
                  <a:srgbClr val="ffe066"/>
                </a:solidFill>
                <a:latin typeface="Times New Roman"/>
              </a:rPr>
              <a:t>По этому номеру можно обратиться как детям, так и родителям или другим родственникам для получения консультативно-психологической помощи, в том числе в случаях жестокого обращения и насилия в семье или вне ее. Вся помощь осуществляется анонимно. 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2" descr="D:\Мои документы\Новое\Праздники\День детского телефона доверия\alis-cell-libri-divieto-computer_430_2.jpg"/>
          <p:cNvPicPr/>
          <p:nvPr/>
        </p:nvPicPr>
        <p:blipFill>
          <a:blip r:embed="rId1"/>
          <a:stretch/>
        </p:blipFill>
        <p:spPr>
          <a:xfrm>
            <a:off x="4857840" y="3429000"/>
            <a:ext cx="4095720" cy="29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телефон-доверия"/>
          <p:cNvPicPr/>
          <p:nvPr/>
        </p:nvPicPr>
        <p:blipFill>
          <a:blip r:embed="rId2"/>
          <a:stretch/>
        </p:blipFill>
        <p:spPr>
          <a:xfrm>
            <a:off x="428760" y="3429000"/>
            <a:ext cx="3998880" cy="28576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5"/>
          <p:cNvSpPr txBox="1"/>
          <p:nvPr/>
        </p:nvSpPr>
        <p:spPr>
          <a:xfrm>
            <a:off x="1071720" y="500040"/>
            <a:ext cx="764352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add6"/>
                </a:solidFill>
                <a:latin typeface="Impact"/>
              </a:rPr>
              <a:t>Помните выход есть</a:t>
            </a:r>
            <a:endParaRPr b="0" lang="en-US" sz="3200" spc="1" strike="noStrike">
              <a:ln w="0">
                <a:noFill/>
              </a:ln>
              <a:solidFill>
                <a:srgbClr val="ffadd6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add6"/>
                </a:solidFill>
                <a:latin typeface="Impact"/>
              </a:rPr>
              <a:t>ВСЕГДА!</a:t>
            </a:r>
            <a:endParaRPr b="0" lang="en-US" sz="3200" spc="1" strike="noStrike">
              <a:ln w="0">
                <a:noFill/>
              </a:ln>
              <a:solidFill>
                <a:srgbClr val="ffadd6"/>
              </a:solidFill>
              <a:latin typeface="Impact"/>
              <a:ea typeface="Impact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23036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В любой ситуации можно разобраться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Самое главное –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не делайте поспешных выводов! Радуйтесь тому,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что Вам подарили жизнь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А как жить – это уже Ваш выбор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Мои документы\Новое\Праздники\День детского телефона доверия\2.jpg"/>
          <p:cNvPicPr/>
          <p:nvPr/>
        </p:nvPicPr>
        <p:blipFill>
          <a:blip r:embed="rId1"/>
          <a:stretch/>
        </p:blipFill>
        <p:spPr>
          <a:xfrm>
            <a:off x="1714680" y="1071720"/>
            <a:ext cx="625788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857160" y="357120"/>
            <a:ext cx="764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add6"/>
                </a:solidFill>
                <a:latin typeface="Impact"/>
              </a:rPr>
              <a:t>Использованные ресурсы:</a:t>
            </a:r>
            <a:endParaRPr b="0" lang="en-US" sz="3200" spc="1" strike="noStrike">
              <a:ln w="0">
                <a:noFill/>
              </a:ln>
              <a:solidFill>
                <a:srgbClr val="ffadd6"/>
              </a:solidFill>
              <a:latin typeface="Impact"/>
              <a:ea typeface="Impact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714240" y="1143000"/>
            <a:ext cx="7929720" cy="3933360"/>
          </a:xfrm>
          <a:prstGeom prst="rect">
            <a:avLst/>
          </a:prstGeom>
          <a:solidFill>
            <a:srgbClr val="ffe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http://www.psi.sch975.edusite.ru/p20aa1.ht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http://uwle4enia.ucoz.ru/blog/vserossijskij_detskij_telefon_quot_doverija_quot/2012-05-15-6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http://www.altairegion22.ru/region_new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http://ria.ru/spravka/20120517/649772320.ht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http://images.yandex.ru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Телефон доверия"/>
          <p:cNvPicPr/>
          <p:nvPr/>
        </p:nvPicPr>
        <p:blipFill>
          <a:blip r:embed="rId1"/>
          <a:stretch/>
        </p:blipFill>
        <p:spPr>
          <a:xfrm>
            <a:off x="4357800" y="0"/>
            <a:ext cx="4457520" cy="35622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0" y="3533760"/>
            <a:ext cx="70009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17 мая в России отмечается Международный день детского телефона доверия, который призван привлечь внимание широкой общественности к необходимости усиления мер по защите детей в трудной жизненной ситуации и помощи им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0" y="214200"/>
            <a:ext cx="55008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e066"/>
                </a:solidFill>
                <a:latin typeface="Times New Roman"/>
              </a:rPr>
              <a:t>Инициатива отмечать этот день принадлежит Международному объединению детских телефонов доверия (Child Helpline International), которое официально признано Комитетом по правам ребенка ООН и включает в себя представительства более 150 стран мира. Представителем России в этой организации является Национальный фонд защиты детей от жестокого обращения (с 2007 года)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Picture 2" descr="http://www.kmparo.ru/upload/news_images/news_image_377.jpg"/>
          <p:cNvPicPr/>
          <p:nvPr/>
        </p:nvPicPr>
        <p:blipFill>
          <a:blip r:embed="rId1"/>
          <a:stretch/>
        </p:blipFill>
        <p:spPr>
          <a:xfrm>
            <a:off x="5149800" y="1785960"/>
            <a:ext cx="3994200" cy="296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214280" y="3584520"/>
            <a:ext cx="742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2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Многие из вас порой не знают, как поступить в той или иной сложной жизненной ситуации. Не знают, к кому обратиться за помощью, поддержкой. Хорошо, когда в семье есть взаимопонимание и можно поделиться своими переживаниями с родителями, братом или сестрой. Некоторыми переживаниями можно поделиться со своим другом или подругой. Но бывают такие ситуации, когда не хочется делиться переживаниями с друзьями или близкими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Picture 2" descr="D:\Мои документы\Новое\Праздники\День детского телефона доверия\AG5e57pV16o.jpg"/>
          <p:cNvPicPr/>
          <p:nvPr/>
        </p:nvPicPr>
        <p:blipFill>
          <a:blip r:embed="rId1"/>
          <a:stretch/>
        </p:blipFill>
        <p:spPr>
          <a:xfrm>
            <a:off x="285840" y="500040"/>
            <a:ext cx="4157640" cy="2766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http://www.kommersant.ru/Images/Money/2001/036/m200136-08-05.jpg"/>
          <p:cNvPicPr/>
          <p:nvPr/>
        </p:nvPicPr>
        <p:blipFill>
          <a:blip r:embed="rId2"/>
          <a:stretch/>
        </p:blipFill>
        <p:spPr>
          <a:xfrm>
            <a:off x="5072040" y="428760"/>
            <a:ext cx="3630600" cy="2800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714240" y="1942200"/>
            <a:ext cx="75726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Если Вам плохо,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если Вам нужна поддержка –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звоните</a:t>
            </a:r>
            <a:r>
              <a:rPr b="0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по телефону доверия </a:t>
            </a:r>
            <a:br>
              <a:rPr sz="3000"/>
            </a:br>
            <a:r>
              <a:rPr b="1" lang="en-US" sz="6000" spc="-1" strike="noStrike">
                <a:solidFill>
                  <a:srgbClr val="ffadd6"/>
                </a:solidFill>
                <a:latin typeface="Times New Roman"/>
                <a:ea typeface="Times New Roman"/>
              </a:rPr>
              <a:t>8-800-2000-122</a:t>
            </a:r>
            <a:br>
              <a:rPr sz="3000"/>
            </a:br>
            <a:r>
              <a:rPr b="1" lang="en-US" sz="30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круглосуточно, бесплатно, анонимно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428760" y="642960"/>
            <a:ext cx="82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У Вас есть возможность позвонить по телефону и рассказать о своих переживаниях, чувствах, проблемах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85840" y="4286160"/>
            <a:ext cx="8643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Телефон доверия – один из видов социально значимых услуг. Предоставляет возможность анонимной телефонной беседы с квалифицированным консультантом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2" descr="D:\Мои документы\Новое\Праздники\День детского телефона доверия\4.jpg"/>
          <p:cNvPicPr/>
          <p:nvPr/>
        </p:nvPicPr>
        <p:blipFill>
          <a:blip r:embed="rId1"/>
          <a:stretch/>
        </p:blipFill>
        <p:spPr>
          <a:xfrm>
            <a:off x="4214880" y="428760"/>
            <a:ext cx="459108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285840" y="214200"/>
            <a:ext cx="8215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Первый телефон доверия появился в 1953 году как помощь людям в кризисном состоянии, в том числе как профилактика суицидов. Англичанин Чад Вара напечатал в газете свой номер телефона и предложил звонить людям в любое время, если в их жизни возникают сложности,  с которыми они сами не могут справиться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4" descr="http://www.blagovest-info.ru/images/Varah.jpg"/>
          <p:cNvPicPr/>
          <p:nvPr/>
        </p:nvPicPr>
        <p:blipFill>
          <a:blip r:embed="rId1"/>
          <a:stretch/>
        </p:blipFill>
        <p:spPr>
          <a:xfrm>
            <a:off x="357120" y="3571920"/>
            <a:ext cx="2309760" cy="3051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http://www.wsnl.co.uk/sites/all/themes/worksop/images/worksopians/CHADVARAH.jpg"/>
          <p:cNvPicPr/>
          <p:nvPr/>
        </p:nvPicPr>
        <p:blipFill>
          <a:blip r:embed="rId2"/>
          <a:stretch/>
        </p:blipFill>
        <p:spPr>
          <a:xfrm>
            <a:off x="3314880" y="3672000"/>
            <a:ext cx="2900160" cy="2900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214200" y="1000080"/>
            <a:ext cx="89298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Он и не думал, что будет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много звонков. Несколько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дней он справлялся сам –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отвечал всем людям. Все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звонившие, прежде всего,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нуждались в дружеской помощи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Он пришел к выводу, что одному ему с этим делом не справиться, и стал искать добровольных помощников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066"/>
                </a:solidFill>
                <a:latin typeface="Times New Roman"/>
              </a:rPr>
              <a:t>Теперь они все вместе отвечали на звонки. Так родилось всемирное движение людей, которые помогают другим людям по телефону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2" descr="D:\Мои документы\Новое\Праздники\День детского телефона доверия\telefon_doveriya.jpg"/>
          <p:cNvPicPr/>
          <p:nvPr/>
        </p:nvPicPr>
        <p:blipFill>
          <a:blip r:embed="rId1"/>
          <a:stretch/>
        </p:blipFill>
        <p:spPr>
          <a:xfrm>
            <a:off x="5748480" y="281160"/>
            <a:ext cx="3402000" cy="3151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78120" y="357120"/>
            <a:ext cx="90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add6"/>
                </a:solidFill>
                <a:latin typeface="Times New Roman"/>
              </a:rPr>
              <a:t>Что же такое телефон доверия ?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12" descr="1983_pv_d_small"/>
          <p:cNvPicPr/>
          <p:nvPr/>
        </p:nvPicPr>
        <p:blipFill>
          <a:blip r:embed="rId1"/>
          <a:stretch/>
        </p:blipFill>
        <p:spPr>
          <a:xfrm>
            <a:off x="0" y="1785960"/>
            <a:ext cx="4114800" cy="27907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21" name="Прямоугольник 3"/>
          <p:cNvSpPr/>
          <p:nvPr/>
        </p:nvSpPr>
        <p:spPr>
          <a:xfrm>
            <a:off x="4357800" y="17146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Детский телефон доверия </a:t>
            </a:r>
            <a:r>
              <a:rPr b="0" lang="en-US" sz="22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– это служба, куда может анонимно обратиться абсолютно любой человек, чтобы обсудить отношения с друзьями, близкими, семейные и школьные отношения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642960" y="4572000"/>
            <a:ext cx="764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e066"/>
                </a:solidFill>
                <a:latin typeface="Times New Roman"/>
                <a:ea typeface="Times New Roman"/>
              </a:rPr>
              <a:t>При звонке на этот номер в любом населенном пункте Российской Федерации со стационарных или мобильных телефонов дети, подростки и их родители могут получить экстренную психологическую помощь, которая оказывается специалистами действующих региональных служб, подключенных к единому общероссийскому номеру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4516200" y="3857760"/>
            <a:ext cx="43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add6"/>
                </a:solidFill>
                <a:latin typeface="Times New Roman"/>
                <a:ea typeface="Times New Roman"/>
              </a:rPr>
              <a:t>8-800-2000-12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4:43:54Z</dcterms:created>
  <dc:creator>Прокопьева Л.Н.</dc:creator>
  <dc:description/>
  <dc:language>en-US</dc:language>
  <cp:lastModifiedBy>Microsoft </cp:lastModifiedBy>
  <dcterms:modified xsi:type="dcterms:W3CDTF">2017-05-28T14:31:16Z</dcterms:modified>
  <cp:revision>21</cp:revision>
  <dc:subject>Внеклассная работа.</dc:subject>
  <dc:title>День детского телефона доверия.</dc:title>
</cp:coreProperties>
</file>